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07F5-C082-4F98-8EEE-D88BEE835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o begin selling the PhaseID System in 2003.  It is now being used by hundreds of lineman in the US and aroun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6EB-39CC-4F12-A581-7B5A59E9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5CB-487E-4D48-A759-9B8922C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78D-7B9A-48EC-8BCE-E41AB6EE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A97-776C-42C5-A55F-4D2CE133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685-B96E-4685-9349-06D03714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76E-F14F-43EA-8704-64120D55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B30-4E3C-4D35-AE49-6155F4A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771-5C20-46F2-AC75-2BCD3FFA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851-33A9-4079-A082-ACDE9DAA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8A4-E1F2-4F3B-8DBB-16D3EE17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A0A-46C8-4D6B-A3D5-44979C57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FB1-BF34-4C1B-93B3-25EAB299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09480" y="0"/>
            <a:ext cx="8534520" cy="6858000"/>
            <a:chOff x="609480" y="0"/>
            <a:chExt cx="8534520" cy="6858000"/>
          </a:xfrm>
        </p:grpSpPr>
        <p:sp>
          <p:nvSpPr>
            <p:cNvPr id="1" name=""/>
            <p:cNvSpPr/>
            <p:nvPr/>
          </p:nvSpPr>
          <p:spPr>
            <a:xfrm>
              <a:off x="609480" y="0"/>
              <a:ext cx="2210040" cy="434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746748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09480" y="2514600"/>
              <a:ext cx="2211480" cy="434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17400" y="1981080"/>
              <a:ext cx="5029200" cy="28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0162-4FCD-40B7-9B8D-3B6DB175E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09480" y="0"/>
            <a:ext cx="8534520" cy="6858000"/>
            <a:chOff x="609480" y="0"/>
            <a:chExt cx="8534520" cy="6858000"/>
          </a:xfrm>
        </p:grpSpPr>
        <p:sp>
          <p:nvSpPr>
            <p:cNvPr id="11" name=""/>
            <p:cNvSpPr/>
            <p:nvPr/>
          </p:nvSpPr>
          <p:spPr>
            <a:xfrm>
              <a:off x="609480" y="0"/>
              <a:ext cx="2210040" cy="434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0"/>
              <a:ext cx="746748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480" y="2514600"/>
              <a:ext cx="2211480" cy="434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17400" y="1981080"/>
              <a:ext cx="5029200" cy="28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340320" cy="2670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4114800"/>
            <a:ext cx="83055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68"/>
                </a:solidFill>
                <a:latin typeface="Arial"/>
              </a:rPr>
              <a:t>Applying the Origo PhaseID Lineman Field Pro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click on the speaker icons to hear aud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50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79440" y="960480"/>
            <a:ext cx="6583320" cy="4937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156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559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79440" y="960480"/>
            <a:ext cx="6583320" cy="4937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847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440" y="1143000"/>
            <a:ext cx="609912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017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9440" y="960480"/>
            <a:ext cx="6583320" cy="4937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7677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79440" y="960480"/>
            <a:ext cx="6583320" cy="4937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61859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79440" y="960480"/>
            <a:ext cx="6583320" cy="4937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8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440" y="1143000"/>
            <a:ext cx="60991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440" y="1143000"/>
            <a:ext cx="60991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79440" y="960480"/>
            <a:ext cx="6583320" cy="4937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02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696440" cy="5773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409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7951680" cy="5965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7951680" cy="5965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7875360" cy="5908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43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0:26:29Z</dcterms:created>
  <dc:creator>.</dc:creator>
  <dc:description/>
  <dc:language>en-US</dc:language>
  <cp:lastModifiedBy>.</cp:lastModifiedBy>
  <dcterms:modified xsi:type="dcterms:W3CDTF">2012-02-09T00:26:30Z</dcterms:modified>
  <cp:revision>164</cp:revision>
  <dc:subject/>
  <dc:title>No Slide Title</dc:title>
</cp:coreProperties>
</file>